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CBFB-07B8-46E9-910C-01A0E86F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16D4-96BD-41E2-80CE-C14A37E8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2DC9-C51C-4F26-BCB7-4120DEDE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990A-DFD4-4BE1-BFDB-ADAE12C6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CB30-ECFE-4D3B-8663-BA695D9D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4663-72AC-4154-9C31-716C2460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1006-CB4C-43CC-AA54-546B8BB3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0DDB-499F-4139-8508-EF06A076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DF38-2704-4CA1-8425-D2406B09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2C39-CFAB-4A75-9EBF-8B42A62A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691A-26C8-4259-897E-03BD0B5B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DFAB-FD68-4DB8-8661-72B77BBC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567E-4247-4C26-8D55-9953C47C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9B89-213D-44E3-A494-BFE642E7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0514-55C2-44D4-87AC-8E137C5E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0EC3-CBCD-43E9-A339-E47D0175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F19E-0F79-46DF-B8C2-D3314E86C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BE805-2F4C-4103-9D9F-621CD596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DD1F6-4636-4075-A753-CBD6B924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F2A8B-5FCA-4128-83A7-DDFA5BAC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250F3-742B-4D15-B89A-6BDE74ED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4F51C-89C1-45B9-87B4-9E0F9BB1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BFD7-8E74-4260-B9D3-6BD20631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BF304-8B0C-4415-A3E7-59AADCBD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2FFCB-B8FD-43B9-A396-73BB9EEB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CFFF6-96DF-427C-A45B-E4120C31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B4B03-5AF0-4A73-8936-6B310840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4DD3B-2178-4F1E-81BD-A18CAB05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BAA5B-D4A2-49A8-B958-1257AE211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841BC-22EC-484A-ABEC-AC3FA09C4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3D34F-E859-424F-BF4C-A65470371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933EE-A238-4381-8276-3AAD3FE0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2AD2F-8127-4B9A-8D70-75977FB4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56AE-D8FE-4A18-BB28-D70D1219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59673-C86C-4364-BC55-BF04CFAF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9621A-A0A6-4035-9A4C-FA67BC2D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4415B-C217-47D3-8C77-31060C47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FC155-A284-4B0C-AF38-F5C9DCDC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16A69-5B0A-488B-8685-EA4C25AB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27768-DB11-4EF6-A43D-D1247B28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6F08B-9765-4B1E-9FBA-C55097BD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C9D6E-8A1C-4680-9BA0-82CC0EF54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B7216-0C8F-42F4-B419-F5DB37ED9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A60E-1842-4531-8A7E-25120365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AF89-B391-4223-A0FF-AD4E0210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1E1F-F970-42E1-9022-E32DF5C0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D24C-CF58-472F-B5B6-4C897E75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AC56-7823-4CFF-825B-3099DAE6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A833-AB8E-4FEC-A6DD-5745DA8BB4C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BFD5-30EF-43B8-AE42-7266D969D84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E295-646B-4461-B33E-7F0AF474C1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042E-B6F1-4614-879F-73F2F187BD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4,3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5,9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8,6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8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3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09,4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42,55 млн.руб. (местный бюджет – 134,59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7,96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3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- 9,4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10,86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2,0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4,3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ДЕЯТЕЛЬНОСТИ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6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 (по состоянию на 01.10.2016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4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8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646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8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5,91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1,6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09,4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1-01T04:56:16Z</dcterms:modified>
  <cp:revision>83</cp:revision>
  <dc:subject/>
  <dc:title>Структура собственных доходов на 2016 год бюджета Дальнереченского городского округа</dc:title>
</cp:coreProperties>
</file>